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4E87-CA32-469F-A4A2-5AA2D6E2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3595-B145-4BBD-85FA-8EB0513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1247-214E-4F6E-B90F-65EE380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A3DD-A6CD-4FA5-AD01-E8662039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C37D-F32C-4A86-A458-185C6728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738-7ED1-4AC6-B23D-C336683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B0A-9DCB-44B2-A230-B0ECEFF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7755-E9CC-456B-A432-F24359C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5FF-48B4-47E7-9AC5-3A689FB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3998-3EFF-4CD8-A901-CB51E40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739-DF06-45F8-BFA5-7113EDD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3567-7728-4071-8E2C-D590164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BE21-C49D-4B5B-A3A3-DCCBCA6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1967-6E52-4FBE-89DD-6007D14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D0C-4649-4660-BBE0-596BBAE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E24D-0CA0-4AB3-B467-6C9D60B7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E237-D5B2-4D26-8A9D-4F23372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7CCA-8752-4E93-8BE9-7C7F1C37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6CAF-CEE4-4867-B905-7E687E96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A1FF-F491-44BF-9434-C9407EC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8F7A-ED43-40C8-A794-B0A1F711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121E-6BCB-44C1-B7A3-675BB77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0896-1146-4223-9B86-702F228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3163-920C-4DC3-AA8E-1165694D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06EA-19EC-4258-A271-FE96C808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1BEA-6BFE-4AA5-909D-227B2E6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C610-2F81-4437-94B4-463FDA9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8D87-865E-47C6-9CF8-7A2BA1D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E62F-2AC7-4143-A100-9EA39920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FB4B-F374-4F8F-8029-C5F2F35E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4B2D-329B-422F-9BD4-1D403FD0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7BCB-51C7-4E54-836E-296A834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AEAD-7612-486F-B815-69D9514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4A75-3513-4754-9CE8-BCE196A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A140-97CC-46C9-838C-B28854E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8A10-74FB-449F-AC78-9C4E783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F84C-5ABB-4841-A500-85C464F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DDED-126A-45FF-BC38-EF38239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302E-86CA-4032-AB73-66A2BCA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36FB-731A-4A8F-A215-AFE6281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8E65-A31D-414D-8B43-C5E7716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7896-A6E8-4377-B5EA-AB2D1E6E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F484-8998-4DA3-88AC-B65F965B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E26F-070F-410A-83B4-1047D83F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A8E8-7006-46C8-8EEF-AE8C0065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964D-2CC1-4B72-A34F-6E1D48A6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7B90-B665-466E-9721-2A7666E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84C8-7822-43CA-B460-19940E5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E81-5CF0-4D10-90BC-6BBB0D11E2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7174-2D79-4F25-BD24-947EB49AC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BF59-B67C-40AD-80E2-E966AEE07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A4A-92EF-46C8-AED5-9975D0EB0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Зелёный свет мечты и надежды(по рассказу А.Грина «Зелёная лампа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Чем стала для Ива зелёная ламп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ля 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елёная лампа стала источником света, для осуществления своей мечты, она осветила ему путь в будуще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7451640" y="5734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Информационные ресурсы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 для 8 класса общественных учреждени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.И. Беленький-М., «Просвещение», 1998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Я. Коровина.  Уроки литературы 8кл.Уроки для учителя –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лександр Степанович Грин(1880-1932)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84280" y="1628640"/>
            <a:ext cx="36734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одержание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графия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 А.Г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 рассказа А.Грина «Зелёная ламп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дея рассказ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имволизирует зелёная ламп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была зелёная лампа для Стильто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стала зелёная лампа для Джона Ив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2089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тство А.Грин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ександр Гринёв родился в городке Слободской Вятской губернии . Рос мечтательным , нетерпеливым мальчиком. Учился плохо ,но любил читать. В 16 лет он покинул семью и началась взрослая жизн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8317080" y="6353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3794" y="10839"/>
                </a:moveTo>
                <a:lnTo>
                  <a:pt x="17806" y="3832"/>
                </a:lnTo>
                <a:lnTo>
                  <a:pt x="17806" y="1784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ворчество А.Грина.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ин появился впервые под рассказом «Случай» в петербургской газете «Товарищ». При жизни писателя было опубликовано 450 произвед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7667640" y="5734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ема рассказа А.Грина «Зелёная ламп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ивительная судьба бродяги Ива, ставшего знаменитым врачом и обеспеченным человеком ,и  жизненное падение богача Стильт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дея рассказ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т, кто имеет перед собой высокую цель, может стать хозяином своей судь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164360" y="623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Что символизирует зелёная ламп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ёная ламп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это символ веры в безграничные возможности человека, в оправданность его стремления к осуществлению мечты, символ надежды, символ света и доб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588000" y="5877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Чем была зелёная лампа для Стильтон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Стильто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это возможность проявить свое превосходство ,преимущество, подчеркнуть презрение к люд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23600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27:40Z</dcterms:created>
  <dc:creator>студент</dc:creator>
  <dc:description/>
  <dc:language>en-US</dc:language>
  <cp:lastModifiedBy>Миша</cp:lastModifiedBy>
  <dcterms:modified xsi:type="dcterms:W3CDTF">2010-04-18T13:00:57Z</dcterms:modified>
  <cp:revision>10</cp:revision>
  <dc:subject/>
  <dc:title>Зеленый свет мечты и надежды(по рассказу А.Грина «Зеленая лампа»)</dc:title>
</cp:coreProperties>
</file>